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90E9-236D-4EE2-A567-04E7A3C6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AEC3-A64B-438E-8836-D2CACACC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852B-8906-4D9B-AC0A-A1259C25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6BEA-B4D3-4091-B391-B125B407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76F0-3AAA-42DE-88DE-D3140AAB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DAF1-DCBE-4F40-BACF-6A9D980D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08A0-E38E-4D54-9A9B-D641AC4B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CED1-4A01-40D3-BE25-6AAF13EB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6366-4486-426F-B29F-7DAC7A82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3209-E650-404E-9579-25321CE0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F82D-9121-4D0A-9D61-C2CEDA2E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917E-A810-4EA4-A5DF-FD0D6A23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5697-0905-4279-8176-C63567DC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B01B-0E67-43A5-B10F-D18F872B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9AB5-A611-409E-86E9-E8A28945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7947-ED63-49D8-8085-B36D11DE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6FCE-2330-4858-9FC4-64DE77AD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4A53D-FC26-4DEC-836E-FDE7129E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AF43B-E308-4F6D-9475-265762B0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8B776-FD2F-4F99-A806-C68DD384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3EBC1-27EE-4514-853A-C4955B73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F162F-6FF9-4028-BAE5-59C871F5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DFB3-3B9B-43CD-B857-86CE15F5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45CDA-F068-48E7-A6F0-F9292AB0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E89C3-A0CE-4107-814A-01D59282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98905-7169-4E98-8CB6-ACB28487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F4635-7A10-42A0-8DA6-FFE267EC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65701-312C-49E6-B0DA-0CD73A6A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A5625-54FB-40FE-A29D-751D0612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4D7EB-2BE6-4480-9175-539E45B1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032A-C089-46D7-ACC5-CF5AD7DA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BCF0-4018-47C1-BA7E-4FE1A798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F1BA-FC61-4609-82F1-BFDF3F3C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9156-4D14-4D98-B754-0708F09A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C247-54C1-47CE-AAD4-5784A0B4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3B43-4B1E-4FE3-BA7F-021B3F39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4DA5-3188-4928-9635-B5BBABABCB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35F1-0F99-4796-8E11-FE30531E8F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E9AD-8F78-49E3-B93E-9DA02E2F8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cbr.ru/" TargetMode="External"/><Relationship Id="rId2" Type="http://schemas.openxmlformats.org/officeDocument/2006/relationships/hyperlink" Target="http://www.eeg.ru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акроэкономи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роблемы фискальной и монетарной политики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Кидлэнда-Прескот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78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Монетарная политика может строиться по двум принципам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</a:rPr>
              <a:t>Связывающее обязательство (политика правил) – </a:t>
            </a:r>
            <a:r>
              <a:rPr b="0" i="1" lang="en-US" sz="2800" spc="-1" strike="noStrike">
                <a:solidFill>
                  <a:srgbClr val="cc9900"/>
                </a:solidFill>
                <a:latin typeface="Times New Roman"/>
              </a:rPr>
              <a:t>binding commitment </a:t>
            </a: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cc9900"/>
                </a:solidFill>
                <a:latin typeface="Times New Roman"/>
              </a:rPr>
              <a:t>policy rules</a:t>
            </a: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</a:rPr>
              <a:t>Отсутствие обязательств (дискреционная политика) - </a:t>
            </a:r>
            <a:r>
              <a:rPr b="0" i="1" lang="en-US" sz="2800" spc="-1" strike="noStrike">
                <a:solidFill>
                  <a:srgbClr val="cc9900"/>
                </a:solidFill>
                <a:latin typeface="Times New Roman"/>
              </a:rPr>
              <a:t>discretion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Кидлэнда-Прескот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Если политик дает 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</a:rPr>
              <a:t>связывающее обязательство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 в отношении инфляции до формирования инфляционных ожиданий, то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=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i="1" lang="en-US" sz="3200" spc="-1" strike="noStrike" baseline="30000">
                <a:solidFill>
                  <a:srgbClr val="292929"/>
                </a:solidFill>
                <a:latin typeface="Times New Roman"/>
                <a:ea typeface="Times New Roman"/>
              </a:rPr>
              <a:t>e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Из (35) следует, что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Тогда политик должен минимизировать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140360" y="3357720"/>
                <a:ext cx="10522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39640" y="4365720"/>
                <a:ext cx="604548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0" y="5300640"/>
            <a:ext cx="903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Оптимальный выбор тривиален: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=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39640" y="5813280"/>
                <a:ext cx="377028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Кидлэнда-Прескот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В 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</a:rPr>
              <a:t>отсутствие связывающего обязательства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 политик выбирает инфляцию, считая инфляционные ожидания сформированными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С учетом (35), задача политика имеет вид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68360" y="4221000"/>
                <a:ext cx="82072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t xml:space="preserve">)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π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Кидлэнда-Прескот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2637000"/>
            <a:ext cx="82868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Условие первого порядка (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FOC)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0" y="1628640"/>
                <a:ext cx="82072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t xml:space="preserve">)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π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0" y="3284640"/>
                <a:ext cx="618660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]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0" y="3933720"/>
            <a:ext cx="8286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Решение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0" y="4551480"/>
                <a:ext cx="8170920" cy="23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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aπ</m:t>
                            </m:r>
                            <m:r>
                              <m:t xml:space="preserve">∗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∗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π</m:t>
                        </m:r>
                        <m:r>
                          <m:t xml:space="preserve">∗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∗</m:t>
                        </m:r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Кидлэнда-Прескот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785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У политика есть стимул выбирать экспансионистскую политику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Если общество ожидает, что политик выберет оптимальный уровень инфляции,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*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, то предельные издержки от небольшого увеличения инфляции равны нулю, а предельная выгода от итогового увеличения выпуска положительна (т.к.             )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В этой ситуации политик выбирает уровень инфляции, больший чем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724360" y="5084640"/>
                <a:ext cx="11876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∗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9850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Кидлэнда-Прескот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Т.к. неопределенность отсутствует, в равновесии 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=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i="1" lang="en-US" sz="3200" spc="-1" strike="noStrike" baseline="30000">
                <a:solidFill>
                  <a:srgbClr val="292929"/>
                </a:solidFill>
                <a:latin typeface="Times New Roman"/>
                <a:ea typeface="Times New Roman"/>
              </a:rPr>
              <a:t>e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одставляя данное условие в (40), получаем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95280" y="3141720"/>
                <a:ext cx="82756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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∗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95280" y="4292640"/>
                <a:ext cx="56577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∗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≡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250920" y="5273640"/>
            <a:ext cx="86421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Т.к. в равновесии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=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i="1" lang="en-US" sz="3200" spc="-1" strike="noStrike" baseline="30000">
                <a:solidFill>
                  <a:srgbClr val="292929"/>
                </a:solidFill>
                <a:latin typeface="Times New Roman"/>
                <a:ea typeface="Times New Roman"/>
              </a:rPr>
              <a:t>e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следовательно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Действия политика приводят к увеличению инфляции, не воздействуя на выпуск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740720" y="5300640"/>
                <a:ext cx="10522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Кидлэнда-Прескот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3141360"/>
            <a:ext cx="843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Действия политика приводят к увеличению инфляции, не воздействуя на выпуск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84360" y="1557360"/>
                <a:ext cx="422568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∗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84360" y="2637000"/>
                <a:ext cx="10522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84360" y="5746680"/>
                <a:ext cx="7948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84360" y="4508640"/>
                <a:ext cx="601020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Кидлэнда-Прескот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8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Если политик объявляет, что инфляции будет равна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*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, и в соответствии с этим общество формирует свои ожидания, он откажется от проведения обещанной политики, как только сформируются ожидания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Т.к. общество осознает, что политик будет поступать именно так, оно будет ожидать инфляцию на уровне, большем чем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Это ухудшает набор альтернатив, находящихся в распоряжении политика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Кидлэнда-Прескот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8928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Источником проблемы является понимание обществом свободы действий, которой располагает политик, а не сама эта свобода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редположим, что общество полагает, что политик связан обязательствами, хотя на самом деле он имеет свободу действий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До тех пор, пока общество не осознает, что политик не выполняет обязательств, политик может увеличить благосостояние общества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Лекция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26920" y="3573360"/>
            <a:ext cx="777744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Динамическая несостоятельность макроэкономической политики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Кидлэнда-Прескот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278100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Если политик сформирует инфляционные ожидания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7640" y="1628640"/>
                <a:ext cx="817236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0" y="4005360"/>
                <a:ext cx="44830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π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0" y="6093000"/>
                <a:ext cx="2360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F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468360" y="4797360"/>
            <a:ext cx="8351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а затем установит инфляцию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=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*,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 то он сможет достичь оптимума (</a:t>
            </a:r>
            <a:r>
              <a:rPr b="0" i="1" lang="en-US" sz="3200" spc="-1" strike="noStrike">
                <a:solidFill>
                  <a:srgbClr val="cc9900"/>
                </a:solidFill>
                <a:latin typeface="Times New Roman"/>
              </a:rPr>
              <a:t>first best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Кидлэнда-Прескот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Однако, представленная </a:t>
            </a:r>
            <a:r>
              <a:rPr b="0" i="1" lang="ru-RU" sz="3200" spc="-1" strike="noStrike">
                <a:solidFill>
                  <a:srgbClr val="cc3300"/>
                </a:solidFill>
                <a:latin typeface="Times New Roman"/>
              </a:rPr>
              <a:t>оптимальная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 политика является </a:t>
            </a:r>
            <a:r>
              <a:rPr b="0" i="1" lang="ru-RU" sz="3200" spc="-1" strike="noStrike">
                <a:solidFill>
                  <a:srgbClr val="cc3300"/>
                </a:solidFill>
                <a:latin typeface="Times New Roman"/>
              </a:rPr>
              <a:t>динамически несостоятельной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Как только общество подстраивает свои ожидания под действия политика,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i="1" lang="en-US" sz="3200" spc="-1" strike="noStrike" baseline="30000">
                <a:solidFill>
                  <a:srgbClr val="292929"/>
                </a:solidFill>
                <a:latin typeface="Times New Roman"/>
                <a:ea typeface="Times New Roman"/>
              </a:rPr>
              <a:t>e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=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=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*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, данная политика становиться </a:t>
            </a:r>
            <a:r>
              <a:rPr b="0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убоптимальной 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second best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0" y="4724280"/>
                <a:ext cx="817236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0" y="5813280"/>
                <a:ext cx="47214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B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инамическая несостоятель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00"/>
                </a:solidFill>
                <a:latin typeface="Times New Roman"/>
              </a:rPr>
              <a:t>Оптимальная политика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 – это политика, минимизирующая потери общества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00"/>
                </a:solidFill>
                <a:latin typeface="Times New Roman"/>
              </a:rPr>
              <a:t>Динамически состоятельная политика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 - это политика, минимизирующая потери общества с учетом </a:t>
            </a:r>
            <a:r>
              <a:rPr b="0" i="1" lang="ru-RU" sz="3200" spc="-1" strike="noStrike">
                <a:solidFill>
                  <a:srgbClr val="cc3300"/>
                </a:solidFill>
                <a:latin typeface="Times New Roman"/>
              </a:rPr>
              <a:t>эффекта обратной связи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 – ожидания общества относительно проводимой политики меняют набор альтернатив, доступных политику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инамическая несостоятель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8000" y="1773000"/>
            <a:ext cx="85024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Другие примеры ситуаций, где оптимальная политика государства может оказаться динамически несостоятельной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Налогообложение капитала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Обесценение номинального государственного долга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3850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ешение проблемы динамической несостоятель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Очевидное решение проблемы динамической несостоятельности – это </a:t>
            </a:r>
            <a:r>
              <a:rPr b="0" i="1" lang="en-US" sz="3200" spc="-1" strike="noStrike">
                <a:solidFill>
                  <a:srgbClr val="cc3300"/>
                </a:solidFill>
                <a:latin typeface="Times New Roman"/>
              </a:rPr>
              <a:t>политика правил 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(политика, следующая обязательствам)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Но это должны быть </a:t>
            </a:r>
            <a:r>
              <a:rPr b="0" i="1" lang="en-US" sz="3200" spc="-1" strike="noStrike">
                <a:solidFill>
                  <a:srgbClr val="cc3300"/>
                </a:solidFill>
                <a:latin typeface="Times New Roman"/>
              </a:rPr>
              <a:t>принудительные правила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, так чтобы политик вынужден был им следовать, несмотря на изменяющиеся обстоятельства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Возникающие при этом проблемы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Сложно учесть все возможные обстоятельства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Политик безнаказанно может не следовать правилам 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ешение проблемы динамической несостоятель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Общие подходы к решению проблем принудительных правил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Репутация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Делегирование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Стимулирующие контракты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оль репутаци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неформальный анализ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Репутация может использоваться для решения проблемы динамической несостоятельности, если политики занимают свою должность более одного периода, и общество не имеет о них точной информации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Например, общество может не знать предпочтений политиков в отношении инфляции и выпуска или их мнение по поводу выбора между инфляцией и безработицей, а также являются ли их заявления о будущей политике обязательными для выполнения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оль репутаци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неформальный анализ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В таких ситуациях поведение политиков дает информацию об их характеристиках, и, следовательно, влияет на ожидания общества в отношении инфляции в последующие периоды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Т.к. политики имеют более благоприятный набор альтернатив при выборе между инфляцией и безработицей, когда инфляция ниже, это дает им стимул следовать низкоинфляционной политике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оль репутаци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неформальный анализ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Общество не знает, какой политике будет следовать правительство в будущие периоды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ри правдоподобных предположениях, чем ниже инфляция, наблюдаемая сегодня, тем ниже ожидаемая в будущем инфляция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Это дает политикам стимул поддерживать инфляцию на низком уровне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Таким образом, неопределенность в отношении характеристик политиков снижает инфляцию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оль репутаци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неформальный анализ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Влияние заботы о репутации на инфляцию тем больше, чем больший вес придают политики будущим периодам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Влияние заботы о репутации значительнее, когда существует большее количество периодов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Влияние на инфляцию сильнее, когда существует большая неопределенность в отношении характеристик политиков 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 чем причина инфляци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000" y="1773360"/>
            <a:ext cx="88567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Для большинства развитых стран, где доход правительства от увеличения денежной базы не имеет большого значения, наиболее вероятной причиной роста предложения денег является существование осознанного выбора между инфляцией и безработицей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оль репутаци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неформальный анализ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96472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На практике, центральные банки выглядят весьма обеспокоенными по поводу завоевания репутации организации надежной и негативно относящейся к инфляции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Если бы общество было уверено в отношении предпочтений, не было бы причин для существования данного явления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Только если общество не имеет полной информации, и ожидания имеют значение, подобная забота может иметь место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Формальный анализ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и репута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896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Формальный анализ модели репутации выносится на семинар (по материалам учебника Ромера)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Студент (студенты), сделавший доклад у доски (с формальным изложением модели репутации) получит +20 баллов (из 100) к оценке за контрольную работу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легир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Можно решить проблему динамической несостоятельности низкоинфляционной монетарной политики, делегировав полномочия по проведению политики индивидам, которые не разделяют взгляды общества по поводу сравнительной значимости выпуска и инфляции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Фактическая и ожидаемая инфляция ниже, когда монетарная политика контролируется кем-то, о ком известно, что он особенно нерасположен к инфляции (</a:t>
            </a:r>
            <a:r>
              <a:rPr b="0" i="1" lang="en-US" sz="3200" spc="-1" strike="noStrike">
                <a:solidFill>
                  <a:srgbClr val="cc3300"/>
                </a:solidFill>
                <a:latin typeface="Times New Roman"/>
              </a:rPr>
              <a:t>консервативный центральный банк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легир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4312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Целевая функция общества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0" y="2349360"/>
                <a:ext cx="88297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0" y="3643200"/>
            <a:ext cx="896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Целевая функция консервативного политика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0" y="4508640"/>
                <a:ext cx="913608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,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легир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Даже если консервативный политик не следует политике правил, в равновесии инфляция ниже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95280" y="2852640"/>
                <a:ext cx="565776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∗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≡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95280" y="4076640"/>
                <a:ext cx="58672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∗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≡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0" y="5202360"/>
            <a:ext cx="91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Чем выше 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’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, тем ниже инфляция (ниже потери общества от инфляции)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01676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легир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96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Когда монетарная политика контролируется кем-то, кто сильно обеспокоен инфляцией, общество понимает, что у политика нет желания проводить экспансионистскую политику; в результате ожидаемая инфляция находится на низком уровне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Во многих странах монетарная политика определяется независимыми центральными банками, а не правительством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легир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равительство часто подбирает индивидов, о которых известно, кто они особенно нерасположены к инфляции, для управления центральным банком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В результате о тех, кто контролируют монетарную политику, известно, что они в большей степени обеспокоены инфляцией, чем общество в целом, и очень редко среди них встречаются те, кто заботиться об инфляции в меньшей степени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легир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Анализ может быть распространен на случай, когда экономика подвержена воздействию шоков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ри разумных предположениях, политик, чьи предпочтения в отношении выпуска и инфляции отличаются от предпочтений общества, не реагирует на шоки оптимально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легир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Таким образом, при выборе того, кому делегировать полномочия по проведению монетарной политики, существует альтернатива: выбор кого-то, кто нерасположен к инфляции, приводит к лучшим результатам в отношении средней инфляции, но к худшим результатам в отношении реакции на шоки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В результате, существует некий оптимальный уровень «консерватизма» для центральных банков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 чем причина инфляци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000" y="1773360"/>
            <a:ext cx="88567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Если политики  считают, что изменения агрегированного спроса влияют на реальный выпуск, то они могут увеличить предложение денег, чтобы попытаться поднять выпуск выше его естественного уровня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Или, если они сталкиваются с уровнем инфляции, который кажется им слишком высоким, они могут быть не готовы вызвать рецессию, чтобы уменьшить инфляцию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езависимость центрального банка и инфляц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Чем больше независимость центрального банка, тем больше способность правительства делегировать полномочия по проведению политики индивидам, которые особенно нерасположены к инфляции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Эмпирически независимость центрального банка измеряется качественными индексами, при расчете которых учитываются такие факторы, как способ назначения и  освобождения от должности руководителя и членом правления банка, наличие представителей государства в правлении и способность правительства налагать вето на решения банка или контролировать их напрямую 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езависимость центрального банка и инфляц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8000" y="1773000"/>
            <a:ext cx="89280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Исследования взаимосвязи между этими измерениями независимости банка и инфляцией выявили, что в промышленно развитых странах независимость банка и инфляция связаны сильной обратной зависимостью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езависимость центрального банка и инфляц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964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Проблемы, связанные с данными оценками: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Возможность систематических изменений предпочтений политиков при изменении степени независимости центрального банка 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Низкая инфляция может быть обусловлена не независимостью центрального банка, а другими факторами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Не существует однозначной взаимосвязи между легальными мерами независимости центрального банка и средней инфляцией среди развивающихся стран 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раницы теорий динамической несостоятельности инфля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Не до конца определена значимость впередсмотрящих ожиданий изменений совокупного предложения, а это является центральным моментом в объяснении инфляции через динамическую несостоятельность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Теории динамической несостоятельности сталкиваются с трудностями при учете временных различий в инфляции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адание для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Бурда-Виплош, 16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Ромер, 10.4-10.5 (материал лекции)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Ромер, 10.8-10.9 (самостоятельная работа)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Ромер, 11.5-11.7, 11.9-11.10 (к следующей лекции)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Подготовиться к тесту (теория + российская статистика государственному бюджету)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www.cbr.ru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33"/>
                </a:solidFill>
                <a:uFillTx/>
                <a:latin typeface="Times New Roman"/>
                <a:hlinkClick r:id="rId2"/>
              </a:rPr>
              <a:t>www.eeg.ru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 чем причина инфляци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</a:rPr>
              <a:t>Любая теория, пытающаяся объяснить, как существование выбора между инфляцией и безработицей может привести к инфляции, должна учитывать тот факт, что такого выбора не существует в долгосрочной перспективе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</a:rPr>
              <a:t>В своей знаменитой работе </a:t>
            </a: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Kydland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Prescott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</a:rPr>
              <a:t> (1977) показывают, что неспособность политиков придерживаться низкоинфляционной политики может привести к завышенному уровню инфляции, несмотря на отсутствие выбора между инфляцией и безработицей в долгосрочной перспективе 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ydland, F.E., Prescott, E.C. (1977) “Rules Rather Than Discretion: The Inconsistency of Optimal Plans”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ournal of Political Econom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7, pp. 473-49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vo G. A. (1978) "On the Time Consistency of Optimal Policy in a Monetary Economy"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conometric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46(6), pp. 1411-142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ydland, F.E., Prescott, E.C. (1980) "Dynamic Optimal Taxation, Rational Expectations and Optimal Control"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Journal of Economic Dynamics and Contr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, pp.79-9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us, D., J. Driffill (1985) “Inflation and Reputation”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merican Economic Review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75, pp. 530-53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ro R. J. (1986) "Reputation in a Model of Monetary Policy with Incomplete Information"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Journal of Monetary Econom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17, pp. 3-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ro R. J., Gordon D. B. (1983a) "Rules, Discretion and Reputation in a Model of Monetary Policy"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ournal of Monetary Econom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12, pp. 101-12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ro R. J., Gordon D. B. (1983b) "A Positive Theory of Monetary Policy in a Natural Rate Model"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Journal of Political Econom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91(4), pp. 589-610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goff, K. (1985) “The Optimal Degree of Commitment to an Intermediate Monetary Target”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uarterly Journal 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conom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14, pp. 199-217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lsh C. E. (1995) "Optimal Contracts for Central Bankers"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American Economic Re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85(1), pp. 150-167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kwood B. (1997) "State-Contingent Inflation Contracts and Unemployment Persistence"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ournal of Money, Credit, and Bank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9(3), pp. 286-299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zen, A. (2000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litical Economy in Macroeconom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Princeton University Press: Princeton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son, T., Tabellini, G. (2000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litical Economy in Macroeconom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The MIT Press: Cambridge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2403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Кидлэнда-Прескот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699920"/>
            <a:ext cx="90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Агрегированное предложение задано функцией предложения Лукаса: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11280" y="2997360"/>
                <a:ext cx="53989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08000" y="364500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07520" indent="-407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 - логарифм выпуска,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07520" indent="-407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- логарифм естественного уровня выпуска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39640" y="4292640"/>
                <a:ext cx="3841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2403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Кидлэнда-Прескот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8000" y="1699920"/>
            <a:ext cx="90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304200" indent="-3042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Предполагается, что целевая функция политика совпадает с функцией общественных потерь (т.е. политик является 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</a:rPr>
              <a:t>беневолентным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):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4581360"/>
            <a:ext cx="882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Times New Roman"/>
              </a:rPr>
              <a:t>y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</a:rPr>
              <a:t>*,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*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 - соответствуют общественному оптимуму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14280" y="3357720"/>
                <a:ext cx="882972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Кидлэнда-Прескот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олитик контролирует рост денежной массы, который определяет поведение агрегированного спроса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Т.к неопределенность отсутствует, мы можем считать, что политик непосредственно выбирает уровень инфляции при ограничении, что инфляция и выпуск связаны соотношением (35), задающим кривую агрегированного предложения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16:53:29Z</dcterms:created>
  <dc:creator>Pekarski</dc:creator>
  <dc:description/>
  <dc:language>en-US</dc:language>
  <cp:lastModifiedBy>Pekarski</cp:lastModifiedBy>
  <dcterms:modified xsi:type="dcterms:W3CDTF">2005-02-08T10:21:59Z</dcterms:modified>
  <cp:revision>18</cp:revision>
  <dc:subject/>
  <dc:title>Макроэкономика</dc:title>
</cp:coreProperties>
</file>